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752D-F186-4D1E-BD9A-BAE5C28DC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E006-34F7-404A-8E8B-52381FF6F07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FF90-195C-47CE-8078-06A877FF836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C1EE-3D50-4B4B-81CB-D3A439148D1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19E9-5DE4-4F7E-8435-B6D2F825805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A679-6902-4C87-AC33-010376613E7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5D41-BA87-4AE9-B32A-81F0DE8E32D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2008-90B0-44B5-BC0A-999021ED9B9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7F15-5638-4C8B-9D91-BEAF0D4B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B2E-AB20-4704-9327-1D2E14F3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4AAF-FEAB-4CD9-B417-1392EF55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F47D-F50F-4208-B59A-45DA3089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C265-CA14-4A4E-8FEA-D7862D88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C0FC-0AA5-44D3-8140-2A0DA183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BACB-B031-4A2C-A7CE-28FEAE88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DAEE-3602-4F29-AB89-A0D75275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FDEE-8239-4686-AB30-E70946D5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E109-B35D-42FF-8FED-04AA565F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9FFB-B641-4ED7-BA0D-6FA0E913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E66A-44E4-4B16-9BE6-771461A3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F327-E4CF-4C17-BE3A-E1EA41F6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207B-8EAB-45FB-A4D5-9BCC7DF6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4BD2-A557-4D5C-87E6-7DBEACE4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426F-8065-419E-B135-94396B83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C592-B901-4633-AA9E-C3718B51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494B-44AB-451D-8837-00BAF4E8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0E6-2AC7-4CAB-BB17-45A6DD50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8DC8-4289-421D-BD65-34178B3E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26C3-F12F-4A35-BA04-739A5332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C629-8401-44E4-BACF-EEE482BF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F1C6-D9BA-49A5-A7FE-2B2248C9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1F69-A01A-48AD-9C28-D89D2B7C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7358-3AA0-4C98-8FB8-12749EFBA4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CE0C-0E50-46D4-BE2F-544146406C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iofuels.croplife.org/index.php?page=biofuel-basics" TargetMode="External"/><Relationship Id="rId2" Type="http://schemas.openxmlformats.org/officeDocument/2006/relationships/hyperlink" Target="http://www.thegreencarwebsite.co.uk/biofuels" TargetMode="External"/><Relationship Id="rId3" Type="http://schemas.openxmlformats.org/officeDocument/2006/relationships/hyperlink" Target="http://biofuelguide.net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492.imageshack.us/img492/3024/sugarcane1fa.jpg&amp;imgrefurl=http://lifeinstillmode.blogspot.com/2006/02/sugar-cane.html&amp;usg=__Yi6dm1QLNqzYIZmoHutVCRIBOTg=&amp;h=600&amp;w=400&amp;sz=148&amp;hl=en&amp;start=4&amp;um=1&amp;tbnid=n0LJGzn1gvzsUM:&amp;tbnh=135&amp;tbnw=90&amp;prev=/images%3Fq%3Dsugar%2Bcane%26hl%3Den%26rlz%3D1T4TSHB_enUS292US297%26sa%3DX%26um%3D1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m/imgres?imgurl=http://www.sfaschool.org/GRADES/3_209_files/asian_toad_1.gif&amp;imgrefurl=http://www.sfaschool.org/GRADES/3_209_files/asian_climbing_toad.htm&amp;usg=__Q8hnMKL8f4rmfLJYvYMPkD5a-PE=&amp;h=233&amp;w=243&amp;sz=23&amp;hl=en&amp;start=4&amp;um=1&amp;tbnid=0C9wmBUgXnjq7M:&amp;tbnh=105&amp;tbnw=110&amp;prev=/images%3Fq%3Dasian%2Brainforests%2Band%2Banimals%26hl%3Den%26rlz%3D1T4TSHB_enUS292US297%26um%3D1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Biofuel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Micki &amp; Ke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426744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http://www.greenroofoffsets.co.uk/grx/co2.jpg"/>
          <p:cNvPicPr/>
          <p:nvPr/>
        </p:nvPicPr>
        <p:blipFill>
          <a:blip r:embed="rId1"/>
          <a:stretch/>
        </p:blipFill>
        <p:spPr>
          <a:xfrm>
            <a:off x="2666880" y="1066680"/>
            <a:ext cx="5953320" cy="3962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://ga.water.usgs.gov/edu/pictures/irrigation.jpg"/>
          <p:cNvPicPr/>
          <p:nvPr/>
        </p:nvPicPr>
        <p:blipFill>
          <a:blip r:embed="rId2"/>
          <a:stretch/>
        </p:blipFill>
        <p:spPr>
          <a:xfrm>
            <a:off x="1752480" y="4191120"/>
            <a:ext cx="3552840" cy="2466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Carbon emissions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achinery used to cultivate crops and plants emit hefty amount of emi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Water use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normous quantities are required to properly irrigate crops as well as manufacture fuel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trains local and regional water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4572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"/>
              </a:rPr>
              <a:t>Disadvantages Continued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85440" y="17524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nies try to offset carbon output by planting trees but this only helps for a little time; to be truly carbon neutral they would have to be locked in for millions of year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biofuels there is a cycle- plants are used, which release CO2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nverted into biofuel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2 stored in plants (removed from atmosphe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33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Carbon Neutral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greenliving.lovetoknow.com/Advantages_and_Disadvantages_of_Biofu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thegreencarwebsite.co.uk/biofuels.asp#disadvan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en.wikipedia.org/wiki/Ethanol_fuel#United_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ezinearticles.com/?Carbon-Neutral---What-Does-It-Mean?&amp;id=3390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urc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biofuels.croplife.org/index.php?page=biofuel-bas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www.thegreencarwebsite.co.uk/biofu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http://biofuelguide.net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eneral Descrip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main typ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hano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cohol made of oxygen, hydrogen and carb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ed from fermentation of cellulose (sugars) of pl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4724280"/>
            <a:ext cx="2133720" cy="1924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876920" y="4267080"/>
            <a:ext cx="2762280" cy="2362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14600" y="50292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.. Continu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dies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getable oils (canola, corn, sunflower, etc.) and recycled g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toxic and biodegrad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ed from transesterification, where oils react with an alcohol (ex: ethanol) mixed with a catalyst (ex: sodium hydroxi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2354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http://tbn1.google.com/images?q=tbn:n0LJGzn1gvzsUM:http://img492.imageshack.us/img492/3024/sugarcane1f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22860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static.howstuffworks.com/gif/corn-4.jpg"/>
          <p:cNvPicPr/>
          <p:nvPr/>
        </p:nvPicPr>
        <p:blipFill>
          <a:blip r:embed="rId3"/>
          <a:stretch/>
        </p:blipFill>
        <p:spPr>
          <a:xfrm>
            <a:off x="3809880" y="152280"/>
            <a:ext cx="1676520" cy="1459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6840" y="1676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produced and consumed in U.S. more than any other countries in the worl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duced from a variety of crops such as: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Arial"/>
              </a:rPr>
              <a:t>Sugar cane  </a:t>
            </a:r>
            <a:r>
              <a:rPr b="0" lang="en-US" sz="3000" spc="-1" strike="noStrike">
                <a:solidFill>
                  <a:srgbClr val="85540a"/>
                </a:solidFill>
                <a:latin typeface="Arial"/>
              </a:rPr>
              <a:t>bagasse  miscathus  sugar beet  sorghum  grain sorghum   switchgrass  barley  hemp  kenaf  potatoes  sweet potatoes  cassava  sunflower  fruit  molasses  </a:t>
            </a:r>
            <a:r>
              <a:rPr b="0" lang="en-US" sz="3000" spc="-1" strike="noStrike">
                <a:solidFill>
                  <a:srgbClr val="0070c0"/>
                </a:solidFill>
                <a:latin typeface="Arial"/>
              </a:rPr>
              <a:t>corn</a:t>
            </a:r>
            <a:r>
              <a:rPr b="0" lang="en-US" sz="3000" spc="-1" strike="noStrike">
                <a:solidFill>
                  <a:srgbClr val="85540a"/>
                </a:solidFill>
                <a:latin typeface="Arial"/>
              </a:rPr>
              <a:t>  stover  grain  wheat  straw  cotton and mo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53352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Ethan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http://photos.autoexpress.co.uk/images/front_picture_library_UK/dir_412/car_photo_206456_7.jpg"/>
          <p:cNvPicPr/>
          <p:nvPr/>
        </p:nvPicPr>
        <p:blipFill>
          <a:blip r:embed="rId1"/>
          <a:stretch/>
        </p:blipFill>
        <p:spPr>
          <a:xfrm>
            <a:off x="838080" y="3962520"/>
            <a:ext cx="3886200" cy="2590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://www.cartoonstock.com/newscartoons/cartoonists/gri/lowres/grin688l.jpg"/>
          <p:cNvPicPr/>
          <p:nvPr/>
        </p:nvPicPr>
        <p:blipFill>
          <a:blip r:embed="rId2"/>
          <a:stretch/>
        </p:blipFill>
        <p:spPr>
          <a:xfrm>
            <a:off x="5943600" y="3740040"/>
            <a:ext cx="2971800" cy="3063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228600" y="10666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balance- energy used to produce fuel is comparable to energy released when burn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n is the most preferred source in the 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ssil fuels are used to also use ethan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thanol is mixed in with petrol to power c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Ethanol again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it can be us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hano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ended with petrol for transpor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dies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replace diesel fuels or use in combination with traditional dies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used in any diesel eng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058160" y="3657600"/>
            <a:ext cx="20858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vantag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Greenhouse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to be C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ic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ly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n’t require changes to current fueling 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s new opport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ar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764320" y="3048120"/>
            <a:ext cx="32083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0520" y="13716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Biodivers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taking land to produce crop, loses land used by animals and wild pl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Asian countries replacing rainforests with oil pla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Food vs. Fuel Debate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biofuels become profitable to farmers they might reduce the of crops they produce. Less food = higher prices and inf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may be countered by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en. biofuels which use waste biomass but this may also impact habitat of organis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Disadvant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8" descr="http://www.allaboutorganic.org/images/crops.jpg"/>
          <p:cNvPicPr/>
          <p:nvPr/>
        </p:nvPicPr>
        <p:blipFill>
          <a:blip r:embed="rId1"/>
          <a:stretch/>
        </p:blipFill>
        <p:spPr>
          <a:xfrm>
            <a:off x="380880" y="3657600"/>
            <a:ext cx="4400640" cy="2925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http://brown.osu.edu/ariculture-natural-resources/corn2.jpg"/>
          <p:cNvPicPr/>
          <p:nvPr/>
        </p:nvPicPr>
        <p:blipFill>
          <a:blip r:embed="rId2"/>
          <a:stretch/>
        </p:blipFill>
        <p:spPr>
          <a:xfrm>
            <a:off x="4016520" y="0"/>
            <a:ext cx="5127480" cy="4098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http://www.lizasreef.com/hope%20for%20the%20rain%20forests/images/peacock.gif"/>
          <p:cNvPicPr/>
          <p:nvPr/>
        </p:nvPicPr>
        <p:blipFill>
          <a:blip r:embed="rId3"/>
          <a:stretch/>
        </p:blipFill>
        <p:spPr>
          <a:xfrm>
            <a:off x="4419720" y="3200400"/>
            <a:ext cx="4286160" cy="2838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://www.blueplanetbiomes.org/images/rainforest001.jpg"/>
          <p:cNvPicPr/>
          <p:nvPr/>
        </p:nvPicPr>
        <p:blipFill>
          <a:blip r:embed="rId4"/>
          <a:stretch/>
        </p:blipFill>
        <p:spPr>
          <a:xfrm>
            <a:off x="457200" y="380880"/>
            <a:ext cx="4025880" cy="2514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tbn0.google.com/images?q=tbn:0C9wmBUgXnjq7M:http://www.sfaschool.org/GRADES/3_209_files/asian_toad_1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9880" y="2666880"/>
            <a:ext cx="13035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8:03:50Z</dcterms:created>
  <dc:creator>sasd</dc:creator>
  <dc:description/>
  <dc:language>en-US</dc:language>
  <cp:lastModifiedBy>sasd</cp:lastModifiedBy>
  <dcterms:modified xsi:type="dcterms:W3CDTF">2009-04-27T18:03:09Z</dcterms:modified>
  <cp:revision>11</cp:revision>
  <dc:subject/>
  <dc:title>Biofuels</dc:title>
</cp:coreProperties>
</file>